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6A156-1D8D-42CA-B9FD-AAB2E6D97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1838-4EB5-44E3-A810-B53B5AD6B4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802F0-7B4A-47DE-AB95-7C0853EC4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150A-88FD-4F21-93DD-0E9AF234F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83DC7-E1C5-4F1F-AD44-B87047F73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F228-AC40-48DD-BE1F-EC3EE992F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B379-43B5-4A7D-9B3C-3E8E3205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AFB77-DA1C-4D68-B29A-B6CB37619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CDFEB-4283-43D6-9E2C-EED2D8A9F9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FE357-4859-41E5-A485-4428FC4FE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C1D5D-4EC0-4FD5-A1B4-D57DEEBFE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BD24-6034-40DF-AB8E-81BB8C64F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1FFE-8A7B-47B1-A7BF-D9501569A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53AD-3B2A-4AC2-B325-894AE6E44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45DEB-3385-4892-A023-3946B0FCC7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DBF79-ADAE-49DF-A955-F845206E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A560D-CC40-4FAD-B097-6D59D08BBD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2F90D-5907-46F8-9367-877562627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F0AEE-6F2A-4E5E-8523-2087446E9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0B11-4355-4655-8937-1DA8A3A2E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9A5C0-ECB4-4B36-834D-6DE75100D6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3C96-0984-4BE8-9009-E10E87FC98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F3D5-40B4-46A2-9849-3E1B719D1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B347-B5D7-4C37-A0DB-22AFF52902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C63EF-AECE-40A6-8362-A1E1BD3584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5AE6-9EDA-4CC3-8293-FFC41565F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D40DD-4E1D-44C9-AC4A-969020625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1FB5-ACF6-452E-9D06-81BD7403A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53DC-4C00-4971-B90F-CACC111C1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20F3-DE3E-4573-9BAF-DEE7ED5C9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E7DCB-E305-45FA-B7FF-00FBF71E2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532D-2FBD-4BB1-812B-C375563B53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B8A2C-89FC-40D9-803B-9C4C957F30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2FF1-58EB-4D82-8E2B-18FB33B22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5B05-9DD6-459F-BFD5-610FDE848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9A2A-DE5A-4360-B27E-63A56CE81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6629-B1C2-4C8A-A7B3-AA2FAB1D2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E124B-5EE7-4505-85C7-37B818B4E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DA328-CC45-4F0C-9346-488338C39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9CC0-3B77-46FB-85FF-DAAEBC94C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9BA14-F2F5-4FD4-8C76-554769F88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410B3-747E-497C-B1C4-9B32A9810F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07A0-1931-4DF6-A3E7-A01527C562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4E7E-0DB4-4742-87E3-93B300B8B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DFE6E-B642-4734-8F29-349058F1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9B406-F6DD-4002-BAE3-ABBB7EE37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4487-10B9-4811-B86A-2A19269F46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253A-4604-4E30-94BB-779B4A1C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54971-6C05-4B7E-8882-05340C6E9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38E1-D669-4565-994D-9DF9F6AC0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6424-7251-441A-ADEB-E355999621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18E29-7854-46FC-9605-ACFF96E5F8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6D08-A3E0-4C7E-AF4F-CDFF1727C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3E59A-E756-4AF5-A726-B209CB73E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60710-F813-490D-8686-2567253F2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4147-3FE6-49BC-A998-0704F0A6D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2B66-8252-44D6-94C2-6D38D12D7D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93E1-C65E-47A9-9EBC-68A4368EF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732BB-F937-4B3B-A10F-47BCD10616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23E93-6C54-42C7-A701-B3B5023A4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03C89-3EAA-44D6-B1E2-6B7A8A5C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CFEC3-94FC-43F5-B440-8BFC98FAD2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041BE-7149-49A2-9783-4428FD20A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63BE-7EC1-4C09-9D20-30A6ACEBB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E207-34D1-4BC7-A17B-9DDC6DD25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FA668-F09C-4DD7-8E02-7D13BA368C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1B384-8E2E-45B1-ACAA-A0C3493D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86EE-C548-4C3B-B751-233548861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2375-05A7-4504-8C06-56CF3D4EB2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FD735-EB29-4022-A53B-53BE4D53D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24AB-0491-42DE-8055-0EB4F7B294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F13B-17A5-44E1-B34C-1384E3A40D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EC4E-A04B-4BF6-89B5-E08D639189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62DD9-1841-4D0F-9E7B-8EEDF4DC9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280B1-65EA-4F83-A5F1-1706946AC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1215D-D634-4CAF-B20C-96BE570AD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CD4CA-D222-4862-A5D4-0BD3796179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51905-4066-472D-929D-4A08B0128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B4EE-72A5-47A2-BE21-7C0DB3BE7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8050C-C7BE-4764-AF48-70A49414BF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9CAF-D400-477D-914C-BE356FA96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0890D-25D5-435B-87E9-1B79C3D89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7DBD0-0776-4C4A-8AED-859AF588E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5D679-AB0A-43DB-B6D7-B376E091D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289E-F85E-4BAC-922E-449D8D57CC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6501E-8FC8-429C-8A04-3894DD3B2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075AF-65EE-4427-BEC5-D5C405525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86884-78C2-4AF3-8E63-5D0E1AFE8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B224-FA35-4FF0-8704-E9F6D4DB7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AD86E-AFDB-4691-A0C7-A4BA519BFB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E5D6-C64B-4E92-8B9D-7971F997C3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B006D-0283-4CB4-AA29-A62E678D8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27D5-AB80-4BE4-A78D-17E34B7C08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BCD2E-3FC3-4B86-9790-D8DC93B2B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9AF24-2777-4171-A75D-657E292AE5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8E4B-ED7D-41E7-98D3-9D74937E9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33D39-E59E-467D-B774-E5D0A7157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2A9CE-CF17-463E-BC3B-20FA4320F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C5E14-8436-450B-8309-3950FD4E7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CAB65-8FBF-4B4E-B5B5-3EC8A5B6C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246B5-97B2-4A2D-9EAA-615249C550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E13F-3AEE-458C-BF50-E4A789632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922AE-21DA-474F-96D5-4E3D2F6B5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EAC0-B36D-4EB3-BDB1-055206F7FE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F2110-07F4-410A-B28B-AFBFEF367F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199A4-3D96-494E-A6F5-0F0040778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0F441-55CA-45ED-B755-9C4CD579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AAD59-594D-430B-A3D8-194A4CC43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C8B-2BB1-4FEE-B842-0B9CDB856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0B81C-DD31-4661-BB2F-47A5AD24E6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D2F8C-5250-4214-8553-88483DDBD4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2D2F1-1862-4909-932E-AF26862EF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09A42-73D2-4969-B1E8-4F365C469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7F1B-F7EA-49C7-9E57-E30C2846C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4162-AB7C-4567-8A91-60D6E6BB1A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9C8D-3304-4102-99BB-ED4DEA98F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7671-AF4D-4C60-BEB4-D8C1299F1A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AA68B-4949-476C-97EB-67020CEC6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0C9FC-2D38-422B-B1B2-B3E868BF04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F4E7-AED6-41ED-853E-E471F1A9A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F473-8D20-40DE-9B02-1ECA9B8143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55D8-8A80-435C-8517-30AAC9CC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ED1B-C500-4BBE-949C-D16FD60F91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84D3-C2FC-43E9-9C77-467568C814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6BB1-3E07-4F12-9E95-B217CF9FC1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9571-70C9-4E63-BFC7-C2A0E7071D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7182-74C0-453A-A7E2-1024085485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A99DB-A23B-40EE-B7E8-AD12CF73A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937E3-DB82-4243-8FDB-9C4DAFFCEF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9E1A-13DF-4829-A025-6312BA6B7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8F14-E8C6-42C7-9131-4A4203403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A1AE5-9AD6-44A8-9647-A37D5F8E8D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F1E6-1B8E-43A9-B60B-1079FFC70E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A5A8-E067-4DFD-82C6-7D96D17F1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78823-AF7B-4FF7-96C2-0A8FA8A83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7C08-E5FE-4D0A-B689-1DB687C928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F4F16-F5C5-4842-ACE5-36313EE69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870E-3BF2-41C2-AD45-999084A57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3D012-F529-4B6C-A79B-6E9295AAA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68340-0D07-4E87-B824-F72D63682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36C42-826A-460A-B2D5-05D05C50E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200FB-3FF0-4936-9B29-A35A15B8F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57B4-D660-44F3-BF1E-238E462CD4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B69E-386C-45FA-AE25-B87069BB2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904DB-C57F-4CAF-8B9D-A79800C67A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D0F1-106B-4E5E-8890-481A34BAA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FA786-EB0E-471C-A5F3-4DD620CE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C44B5-09F0-403D-953B-ABC31B8E2E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1E3D-7946-4FFC-BEBD-11E1068A64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4D611-3731-45D1-8029-3E271F442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C93FB-0853-48ED-AB92-E9D43FF65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8D75-9066-49C3-BEDA-F6F3F05DD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79B6C-9D88-4D69-AED7-B7A11943F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493E8-654F-4DBE-9C63-8B08700F1D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76EFB-A1E9-4BF3-991E-4CAADE9908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ABBF-3CCC-4E14-B308-5A82303BC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50F14-9A1F-4FE2-8B10-4F8B0286E0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F6A8-ACE6-4DB6-B029-6DA47A7CE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D1FEE-4782-4B76-8115-5E86381BC1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7288-6709-4729-8E2B-C015B8CF5F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2018-6E0C-4367-B826-A37C5F6070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CABEB-02B4-4495-A6FF-7E32A06AA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42B5-71D1-41F6-9FE4-57E7B6E0B3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17145-2C47-47C6-9CE9-C33E3392ED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D5FD-755D-41C1-A21D-6A184D82CA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700F7-34BB-47FB-B858-0F83A6E22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ADFB5-315B-4BD3-9136-73F06797F3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2C3B-A113-4804-AE0C-A654E3521E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FB9B-6F9C-4FCF-98F8-7B6BE9924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688BE-7EEA-4B2E-9E02-6486DBB80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181F-9BAB-47B8-B00A-53245EAFE7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7FC8C-E77B-4381-A805-6D8F8264B6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E9D4D-8E71-43AA-A0E4-7FF8B4D92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DC9F-F3A2-47FE-827D-F65E0B76CE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AC4F-B94D-44F6-8E58-E9289FF3D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51E1D-44F6-4378-AC35-CB745396B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4BDF4-3088-45D7-A7CB-C31863E5B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5AC09-59E4-4092-90F3-A6BF3CC52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B5B7-C9A7-4D19-AAF9-FC1EE3A1B3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6823-1255-41DE-B721-E7F2EBBC05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9DFAA-9A08-4A9E-9746-3E29EEB01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0A7-CD53-4A5E-BD3E-6C4797B33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F751-AAC2-4806-B310-A91CB5A1C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554B-8BBC-4120-9739-119DFE0AC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79E9D-3931-454B-9208-D216CF608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D3ACC-E980-4C93-AC78-06E53DF5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DDB0-6F0D-4FAF-8EAE-A5F3ECE65C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EA03-ECBD-48C0-A8C3-9249A1EB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FCD6E-4D24-46F7-AA9F-CB03CDDD4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5324-83CB-4BBD-8232-6A6A49923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FD7C7-4584-4D40-9418-B0B54D471E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43B6-FC97-4B29-BD47-CF5E950E12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0E5F-0763-451F-B79B-13314E7E91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37DF3-5A2C-49C5-B72A-FC639276F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23A1-5287-440F-AD47-2F705FBB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DE66-688E-448E-A283-C3330F70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56C-4371-4F55-A7B1-11E2A5B6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6601-BF98-4DBF-BC34-0C88DB840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625F-C0E6-46C5-A2D3-6483796A6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8FDE-454B-456B-AAF1-420C733A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BE89-68BC-4C4E-9007-F781A634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FD3-0A30-4D81-AD86-2FEC5520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DE2-55AC-48D1-B1E6-26FC4CE4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D705-5EDD-417C-9EED-B0FF715FA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47D2-0567-4F00-A74C-2EFE60D93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E09-66F6-47DD-BF45-2467D326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2909-B8B2-4D93-A47D-8374279E85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verage temperature and rainfall of an area over many year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ma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77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64" dur="770" fill="hold"/>
                                        <p:tgtEl>
                                          <p:spTgt spid="4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6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68" dur="77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0" dur="indefinite" restart="never" nodeType="tmRoot">
          <p:childTnLst>
            <p:seq>
              <p:cTn id="871" dur="indefinite" nodeType="mainSeq">
                <p:childTnLst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8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system of 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ri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8" dur="indefinite" restart="never" nodeType="tmRoot">
          <p:childTnLst>
            <p:seq>
              <p:cTn id="899" dur="indefinite" nodeType="mainSeq">
                <p:childTnLst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04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1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one thousand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ll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38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mount of space an object takes up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, often in the form of facts and figures, obtained from experiments or survey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7" dur="indefinite" restart="never" nodeType="tmRoot">
          <p:childTnLst>
            <p:seq>
              <p:cTn id="958" dur="indefinite" nodeType="mainSeq">
                <p:childTnLst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5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make distant objects appear larger and near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le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2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3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80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5" dur="indefinite" restart="never" nodeType="tmRoot">
          <p:childTnLst>
            <p:seq>
              <p:cTn id="976" dur="indefinite" nodeType="mainSeq">
                <p:childTnLst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3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4" dur="indefinite" restart="never" nodeType="tmRoot">
          <p:childTnLst>
            <p:seq>
              <p:cTn id="985" dur="indefinite" nodeType="mainSeq">
                <p:childTnLst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0" dur="77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1" dur="770" fill="hold"/>
                                        <p:tgtEl>
                                          <p:spTgt spid="5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3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5" dur="77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t able to be seen throug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paqu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03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of an object that is a measure of the amount of matter an object ha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1" dur="indefinite" restart="never" nodeType="tmRoot">
          <p:childTnLst>
            <p:seq>
              <p:cTn id="1022" dur="indefinite" nodeType="mainSeq">
                <p:childTnLst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5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istance an object moves over a given amount of tim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pe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6" dur="indefinite" restart="never" nodeType="tmRoot">
          <p:childTnLst>
            <p:seq>
              <p:cTn id="1037" dur="indefinite" nodeType="mainSeq">
                <p:childTnLst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munity of organisms and its environment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cosyste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7" dur="indefinite" restart="never" nodeType="tmRoot">
          <p:childTnLst>
            <p:seq>
              <p:cTn id="1048" dur="indefinite" nodeType="mainSeq">
                <p:childTnLst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3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4" dur="indefinite" restart="never" nodeType="tmRoot">
          <p:childTnLst>
            <p:seq>
              <p:cTn id="1055" dur="indefinite" nodeType="mainSeq">
                <p:childTnLst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0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1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3" dur="indefinite" restart="never" nodeType="tmRoot">
          <p:childTnLst>
            <p:seq>
              <p:cTn id="1064" dur="indefinite" nodeType="mainSeq">
                <p:childTnLst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9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lace where a person or 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77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83" dur="770" fill="hold"/>
                                        <p:tgtEl>
                                          <p:spTgt spid="5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5" dur="77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87" dur="77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9" dur="indefinite" restart="never" nodeType="tmRoot">
          <p:childTnLst>
            <p:seq>
              <p:cTn id="1090" dur="indefinite" nodeType="mainSeq">
                <p:childTnLst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drawing objects together and resisting separ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traction (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4" dur="indefinite" restart="never" nodeType="tmRoot">
          <p:childTnLst>
            <p:seq>
              <p:cTn id="1115" dur="indefinite" nodeType="mainSeq">
                <p:childTnLst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 that feeds on dead organism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compos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3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3" dur="indefinite" restart="never" nodeType="tmRoot">
          <p:childTnLst>
            <p:seq>
              <p:cTn id="1134" dur="indefinite" nodeType="mainSeq">
                <p:childTnLst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ct of being on fire so as to give off hea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rn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7" dur="indefinite" restart="never" nodeType="tmRoot">
          <p:childTnLst>
            <p:seq>
              <p:cTn id="1148" dur="indefinite" nodeType="mainSeq">
                <p:childTnLst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6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7" dur="indefinite" restart="never" nodeType="tmRoot">
          <p:childTnLst>
            <p:seq>
              <p:cTn id="1158" dur="indefinite" nodeType="mainSeq">
                <p:childTnLst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3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6" dur="indefinite" restart="never" nodeType="tmRoot">
          <p:childTnLst>
            <p:seq>
              <p:cTn id="1167" dur="indefinite" nodeType="mainSeq">
                <p:childTnLst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3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2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the force of gravity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igh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5" dur="indefinite" restart="never" nodeType="tmRoot">
          <p:childTnLst>
            <p:seq>
              <p:cTn id="1176" dur="indefinite" nodeType="mainSeq">
                <p:childTnLst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3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4" dur="indefinite" restart="never" nodeType="tmRoot">
          <p:childTnLst>
            <p:seq>
              <p:cTn id="1195" dur="indefinite" nodeType="mainSeq">
                <p:childTnLst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0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go back to the original shape or size after being stretched, pressed, or squeezed togethe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astic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does not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sula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4" dur="indefinite" restart="never" nodeType="tmRoot">
          <p:childTnLst>
            <p:seq>
              <p:cTn id="1205" dur="indefinite" nodeType="mainSeq">
                <p:childTnLst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3" dur="indefinite" restart="never" nodeType="tmRoot">
          <p:childTnLst>
            <p:seq>
              <p:cTn id="1214" dur="indefinite" nodeType="mainSeq">
                <p:childTnLst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2" dur="indefinite" restart="never" nodeType="tmRoot">
          <p:childTnLst>
            <p:seq>
              <p:cTn id="1223" dur="indefinite" nodeType="mainSeq">
                <p:childTnLst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eats other organisms to get energ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um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9" dur="indefinite" restart="never" nodeType="tmRoot">
          <p:childTnLst>
            <p:seq>
              <p:cTn id="1230" dur="indefinite" nodeType="mainSeq">
                <p:childTnLst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5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6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8" dur="indefinite" restart="never" nodeType="tmRoot">
          <p:childTnLst>
            <p:seq>
              <p:cTn id="1239" dur="indefinite" nodeType="mainSeq">
                <p:childTnLst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44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5" dur="indefinite" restart="never" nodeType="tmRoot">
          <p:childTnLst>
            <p:seq>
              <p:cTn id="1246" dur="indefinite" nodeType="mainSeq">
                <p:childTnLst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tement giving reasons for information obtained from experiment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plan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2" dur="indefinite" restart="never" nodeType="tmRoot">
          <p:childTnLst>
            <p:seq>
              <p:cTn id="1253" dur="indefinite" nodeType="mainSeq">
                <p:childTnLst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0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1" dur="indefinite" restart="never" nodeType="tmRoot">
          <p:childTnLst>
            <p:seq>
              <p:cTn id="1262" dur="indefinite" nodeType="mainSeq">
                <p:childTnLst>
                  <p:par>
                    <p:cTn id="1263" fill="hold">
                      <p:stCondLst>
                        <p:cond delay="indefinite"/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7" dur="2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8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2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bility of an organism to stay aliv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rviva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86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Non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hrenhe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7" dur="indefinite" restart="never" nodeType="tmRoot">
          <p:childTnLst>
            <p:seq>
              <p:cTn id="1288" dur="indefinite" nodeType="mainSeq">
                <p:childTnLst>
                  <p:par>
                    <p:cTn id="1289" fill="hold">
                      <p:stCondLst>
                        <p:cond delay="indefinite"/>
                      </p:stCondLst>
                      <p:childTnLst>
                        <p:par>
                          <p:cTn id="1290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3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4" dur="indefinite" restart="never" nodeType="tmRoot">
          <p:childTnLst>
            <p:seq>
              <p:cTn id="1295" dur="indefinite" nodeType="mainSeq">
                <p:childTnLst>
                  <p:par>
                    <p:cTn id="1296" fill="hold">
                      <p:stCondLst>
                        <p:cond delay="indefinite"/>
                      </p:stCondLst>
                      <p:childTnLst>
                        <p:par>
                          <p:cTn id="1297" fill="hold">
                            <p:stCondLst>
                              <p:cond delay="0"/>
                            </p:stCondLst>
                            <p:childTnLst>
                              <p:par>
                                <p:cTn id="1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0" dur="2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haracteristic that is passed from parent to offspr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herited 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2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0" dur="2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1" dur="indefinite" restart="never" nodeType="tmRoot">
          <p:childTnLst>
            <p:seq>
              <p:cTn id="1322" dur="indefinite" nodeType="mainSeq">
                <p:childTnLst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7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8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00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0" dur="indefinite" restart="never" nodeType="tmRoot">
          <p:childTnLst>
            <p:seq>
              <p:cTn id="1331" dur="indefinite" nodeType="mainSeq">
                <p:childTnLst>
                  <p:par>
                    <p:cTn id="1332" fill="hold">
                      <p:stCondLst>
                        <p:cond delay="indefinite"/>
                      </p:stCondLst>
                      <p:childTnLst>
                        <p:par>
                          <p:cTn id="1333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6" dur="20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7" dur="indefinite" restart="never" nodeType="tmRoot">
          <p:childTnLst>
            <p:seq>
              <p:cTn id="1338" dur="indefinite" nodeType="mainSeq">
                <p:childTnLst>
                  <p:par>
                    <p:cTn id="1339" fill="hold">
                      <p:stCondLst>
                        <p:cond delay="indefinite"/>
                      </p:stCondLst>
                      <p:childTnLst>
                        <p:par>
                          <p:cTn id="1340" fill="hold">
                            <p:stCondLst>
                              <p:cond delay="0"/>
                            </p:stCondLst>
                            <p:childTnLst>
                              <p:par>
                                <p:cTn id="13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43" dur="20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4" dur="indefinite" restart="never" nodeType="tmRoot">
          <p:childTnLst>
            <p:seq>
              <p:cTn id="1345" dur="indefinite" nodeType="mainSeq">
                <p:childTnLst>
                  <p:par>
                    <p:cTn id="1346" fill="hold">
                      <p:stCondLst>
                        <p:cond delay="indefinite"/>
                      </p:stCondLst>
                      <p:childTnLst>
                        <p:par>
                          <p:cTn id="1347" fill="hold">
                            <p:stCondLst>
                              <p:cond delay="0"/>
                            </p:stCondLst>
                            <p:childTnLst>
                              <p:par>
                                <p:cTn id="1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0" dur="8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1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8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ubstance or object that can allow electricity, heat, or sound to pass through it easil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6" dur="indefinite" restart="never" nodeType="tmRoot">
          <p:childTnLst>
            <p:seq>
              <p:cTn id="1357" dur="indefinite" nodeType="mainSeq">
                <p:childTnLst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5" dur="indefinite" restart="never" nodeType="tmRoot">
          <p:childTnLst>
            <p:seq>
              <p:cTn id="1366" dur="indefinite" nodeType="mainSeq">
                <p:childTnLst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1" dur="2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2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3" dur="20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4" dur="indefinite" restart="never" nodeType="tmRoot">
          <p:childTnLst>
            <p:seq>
              <p:cTn id="1375" dur="indefinite" nodeType="mainSeq">
                <p:childTnLst>
                  <p:par>
                    <p:cTn id="1376" fill="hold">
                      <p:stCondLst>
                        <p:cond delay="indefinite"/>
                      </p:stCondLst>
                      <p:childTnLst>
                        <p:par>
                          <p:cTn id="1377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steps, done in a particular order, to answer testable (scientific) quest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ced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0" dur="indefinite" restart="never" nodeType="tmRoot">
          <p:childTnLst>
            <p:seq>
              <p:cTn id="1391" dur="indefinite" nodeType="mainSeq">
                <p:childTnLst>
                  <p:par>
                    <p:cTn id="1392" fill="hold">
                      <p:stCondLst>
                        <p:cond delay="indefinite"/>
                      </p:stCondLst>
                      <p:childTnLst>
                        <p:par>
                          <p:cTn id="1393" fill="hold">
                            <p:stCondLst>
                              <p:cond delay="0"/>
                            </p:stCondLst>
                            <p:childTnLst>
                              <p:par>
                                <p:cTn id="13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6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indefinite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6" dur="20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7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8" dur="20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all light to pass through, and objects can be clearly seen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par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5" dur="20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6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8" dur="indefinite" restart="never" nodeType="tmRoot">
          <p:childTnLst>
            <p:seq>
              <p:cTn id="1419" dur="indefinite" nodeType="mainSeq">
                <p:childTnLst>
                  <p:par>
                    <p:cTn id="1420" fill="hold">
                      <p:stCondLst>
                        <p:cond delay="indefinite"/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2" dur="indefinite" restart="never" nodeType="tmRoot">
          <p:childTnLst>
            <p:seq>
              <p:cTn id="1433" dur="indefinite" nodeType="mainSeq">
                <p:childTnLst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roperty of magnetism, a force pushing objects apart and resisting attrac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pulsion ( Magnet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2" dur="indefinite" restart="never" nodeType="tmRoot">
          <p:childTnLst>
            <p:seq>
              <p:cTn id="1443" dur="indefinite" nodeType="mainSeq">
                <p:childTnLst>
                  <p:par>
                    <p:cTn id="1444" fill="hold">
                      <p:stCondLst>
                        <p:cond delay="indefinite"/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2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3" dur="indefinite" restart="never" nodeType="tmRoot">
          <p:childTnLst>
            <p:seq>
              <p:cTn id="1454" dur="indefinite" nodeType="mainSeq">
                <p:childTnLst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3" dur="indefinite" restart="never" nodeType="tmRoot">
          <p:childTnLst>
            <p:seq>
              <p:cTn id="1464" dur="indefinite" nodeType="mainSeq">
                <p:childTnLst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469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sure of how hot or cold something i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mpera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omething looks, smells, feels, Ex. Color, texture, floating, weight, o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hysical proper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0" dur="indefinite" restart="never" nodeType="tmRoot">
          <p:childTnLst>
            <p:seq>
              <p:cTn id="1471" dur="indefinite" nodeType="mainSeq">
                <p:childTnLst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5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6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7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8" dur="indefinite" restart="never" nodeType="tmRoot">
          <p:childTnLst>
            <p:seq>
              <p:cTn id="1489" dur="indefinite" nodeType="mainSeq">
                <p:childTnLst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that resists motion between objects that are touching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ri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7" dur="indefinite" restart="never" nodeType="tmRoot">
          <p:childTnLst>
            <p:seq>
              <p:cTn id="1498" dur="indefinite" nodeType="mainSeq">
                <p:childTnLst>
                  <p:par>
                    <p:cTn id="1499" fill="hold">
                      <p:stCondLst>
                        <p:cond delay="indefinite"/>
                      </p:stCondLst>
                      <p:childTnLst>
                        <p:par>
                          <p:cTn id="1500" fill="hold">
                            <p:stCondLst>
                              <p:cond delay="0"/>
                            </p:stCondLst>
                            <p:childTnLst>
                              <p:par>
                                <p:cTn id="15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3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10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5" dur="10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indefinite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12" dur="20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3" dur="indefinite" restart="never" nodeType="tmRoot">
          <p:childTnLst>
            <p:seq>
              <p:cTn id="1514" dur="indefinite" nodeType="mainSeq">
                <p:childTnLst>
                  <p:par>
                    <p:cTn id="1515" fill="hold">
                      <p:stCondLst>
                        <p:cond delay="indefinite"/>
                      </p:stCondLst>
                      <p:childTnLst>
                        <p:par>
                          <p:cTn id="1516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1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efix meaning 1,0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il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7" dur="indefinite" restart="never" nodeType="tmRoot">
          <p:childTnLst>
            <p:seq>
              <p:cTn id="1528" dur="indefinite" nodeType="mainSeq">
                <p:childTnLst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533" dur="2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4" dur="indefinite" restart="never" nodeType="tmRoot">
          <p:childTnLst>
            <p:seq>
              <p:cTn id="1535" dur="indefinite" nodeType="mainSeq">
                <p:childTnLst>
                  <p:par>
                    <p:cTn id="1536" fill="hold">
                      <p:stCondLst>
                        <p:cond delay="indefinite"/>
                      </p:stCondLst>
                      <p:childTnLst>
                        <p:par>
                          <p:cTn id="1537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0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towards oneself or the cause of the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l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1" dur="indefinite" restart="never" nodeType="tmRoot">
          <p:childTnLst>
            <p:seq>
              <p:cTn id="1552" dur="indefinite" nodeType="mainSeq">
                <p:childTnLst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9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push or a pull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0" dur="indefinite" restart="never" nodeType="tmRoot">
          <p:childTnLst>
            <p:seq>
              <p:cTn id="1561" dur="indefinite" nodeType="mainSeq">
                <p:childTnLst>
                  <p:par>
                    <p:cTn id="1562" fill="hold">
                      <p:stCondLst>
                        <p:cond delay="indefinite"/>
                      </p:stCondLst>
                      <p:childTnLst>
                        <p:par>
                          <p:cTn id="1563" fill="hold">
                            <p:stCondLst>
                              <p:cond delay="0"/>
                            </p:stCondLst>
                            <p:childTnLst>
                              <p:par>
                                <p:cTn id="15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6" dur="77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67" dur="770" fill="hold"/>
                                        <p:tgtEl>
                                          <p:spTgt spid="76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6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69" dur="77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7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71" dur="77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7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3" dur="indefinite" restart="never" nodeType="tmRoot">
          <p:childTnLst>
            <p:seq>
              <p:cTn id="1574" dur="indefinite" nodeType="mainSeq">
                <p:childTnLst>
                  <p:par>
                    <p:cTn id="1575" fill="hold">
                      <p:stCondLst>
                        <p:cond delay="indefinite"/>
                      </p:stCondLst>
                      <p:childTnLst>
                        <p:par>
                          <p:cTn id="1576" fill="hold">
                            <p:stCondLst>
                              <p:cond delay="0"/>
                            </p:stCondLst>
                            <p:childTnLst>
                              <p:par>
                                <p:cTn id="15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sequence of who eats whom in a biological communit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od ch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9" dur="indefinite" restart="never" nodeType="tmRoot">
          <p:childTnLst>
            <p:seq>
              <p:cTn id="1590" dur="indefinite" nodeType="mainSeq">
                <p:childTnLst>
                  <p:par>
                    <p:cTn id="1591" fill="hold">
                      <p:stCondLst>
                        <p:cond delay="indefinite"/>
                      </p:stCondLst>
                      <p:childTnLst>
                        <p:par>
                          <p:cTn id="1592" fill="hold">
                            <p:stCondLst>
                              <p:cond delay="0"/>
                            </p:stCondLst>
                            <p:childTnLst>
                              <p:par>
                                <p:cTn id="15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6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9" dur="indefinite" restart="never" nodeType="tmRoot">
          <p:childTnLst>
            <p:seq>
              <p:cTn id="1600" dur="indefinite" nodeType="mainSeq">
                <p:childTnLst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work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un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9" dur="indefinite" restart="never" nodeType="tmRoot">
          <p:childTnLst>
            <p:seq>
              <p:cTn id="1610" dur="indefinite" nodeType="mainSeq">
                <p:childTnLst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3" dur="indefinite" restart="never" nodeType="tmRoot">
          <p:childTnLst>
            <p:seq>
              <p:cTn id="1624" dur="indefinite" nodeType="mainSeq">
                <p:childTnLst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29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0" dur="indefinite" restart="never" nodeType="tmRoot">
          <p:childTnLst>
            <p:seq>
              <p:cTn id="1631" dur="indefinite" nodeType="mainSeq">
                <p:childTnLst>
                  <p:par>
                    <p:cTn id="1632" fill="hold">
                      <p:stCondLst>
                        <p:cond delay="indefinite"/>
                      </p:stCondLst>
                      <p:childTnLst>
                        <p:par>
                          <p:cTn id="1633" fill="hold">
                            <p:stCondLst>
                              <p:cond delay="0"/>
                            </p:stCondLst>
                            <p:childTnLst>
                              <p:par>
                                <p:cTn id="16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4"/>
          <p:cNvSpPr/>
          <p:nvPr/>
        </p:nvSpPr>
        <p:spPr>
          <a:xfrm>
            <a:off x="1447920" y="2057400"/>
            <a:ext cx="62481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wo or more things are combined, but the things do not chan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x. cement, trail mix, sa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x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6" dur="indefinite" restart="never" nodeType="tmRoot">
          <p:childTnLst>
            <p:seq>
              <p:cTn id="1637" dur="indefinite" nodeType="mainSeq">
                <p:childTnLst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4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5" dur="indefinite" restart="never" nodeType="tmRoot">
          <p:childTnLst>
            <p:seq>
              <p:cTn id="1646" dur="indefinite" nodeType="mainSeq">
                <p:childTnLst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5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ool that uses a combination of lenses to produce a greatly magnified image of an object to small to be seen by the naked ey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croscop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9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0" dur="indefinite" restart="never" nodeType="tmRoot">
          <p:childTnLst>
            <p:seq>
              <p:cTn id="1671" dur="indefinite" nodeType="mainSeq">
                <p:childTnLst>
                  <p:par>
                    <p:cTn id="1672" fill="hold">
                      <p:stCondLst>
                        <p:cond delay="indefinite"/>
                      </p:stCondLst>
                      <p:childTnLst>
                        <p:par>
                          <p:cTn id="1673" fill="hold">
                            <p:stCondLst>
                              <p:cond delay="0"/>
                            </p:stCondLst>
                            <p:childTnLst>
                              <p:par>
                                <p:cTn id="16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6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7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2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5" dur="2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205740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question that can be answered through an investigation where one part of an experiment is allowed to change and all other parts are kept the sam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able ques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amount or number of somet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uantitativ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volum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mount of size determined by comparison with a known quantity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basic force that attracts all objects to each o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v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complete path along which electricity moves. (closed loop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ectrical circui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ages that an organism goes through as it grows and matur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fe Cyc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thing that has mass and takes up spa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group of organisms that live together and share resour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munit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7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9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dropping of eroded soil and rock pieces in a new pla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osi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4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temperature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lsiu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3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ol to measure temperatur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rmome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asurement of the size of an object. (length, width, height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imension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mething you can observe about an object that can be used to describe the object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racteristic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1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4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turn of information about the result of a scientific investigation which modify, correct, or strengthen the investiga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447920" y="42670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edba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4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oose material in which plants can grow in the upper layer of Earth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i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 Earth material made up of different ingredients called mineral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ck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rganisms that make their own foo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duc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5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1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3" dur="8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tter that takes the shape and volume of its container. Ex. – ai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way something is put togethe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u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standard unit of measure of length. (metric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e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s caused by vibrations through a material which can be heard when they reach a person’s or animal’s e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u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77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3" dur="770" fill="hold"/>
                                        <p:tgtEl>
                                          <p:spTgt spid="3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5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7" dur="77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93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lows some light to pass, but does not produce detailed imag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luc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607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447920" y="205740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er that cannot be separated into other kinds of matter by any physical proc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e substan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3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5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orce on an object to move the object away from oneself or the cause of force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sh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9" dur="77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60" dur="770" fill="hold"/>
                                        <p:tgtEl>
                                          <p:spTgt spid="3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2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64" dur="77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force of push and pull between poles of magnet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agnetis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2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79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hanges made to organisms to help it meet its need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apt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4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ovement of Earth materials by water, wind, or i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ros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0" dur="indefinite" restart="never" nodeType="tmRoot">
          <p:childTnLst>
            <p:seq>
              <p:cTn id="681" dur="indefinite" nodeType="mainSeq">
                <p:childTnLst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94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natural liquid material made up of hydrogen and oxyge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ater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4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6" dur="indefinite" restart="never" nodeType="tmRoot">
          <p:childTnLst>
            <p:seq>
              <p:cTn id="717" dur="indefinite" nodeType="mainSeq">
                <p:childTnLst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22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29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measurable object, condition, or event, which can be changed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bl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8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4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basic Earth material; a rock ingredient that cannot be physically broken down any furth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eral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3" dur="1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ies of controlled steps, which can be repeated, for the purpose of answering a testable question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vestigation (Experime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2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4"/>
          <p:cNvSpPr/>
          <p:nvPr/>
        </p:nvSpPr>
        <p:spPr>
          <a:xfrm>
            <a:off x="1447920" y="205740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rocess by which rocks are broken down into smaller pie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eatheri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3" dur="indefinite" restart="never" nodeType="tmRoot">
          <p:childTnLst>
            <p:seq>
              <p:cTn id="784" dur="indefinite" nodeType="mainSeq">
                <p:childTnLst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6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yer of air that surrounds Earth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tmosp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10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77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8" dur="770" fill="hold"/>
                                        <p:tgtEl>
                                          <p:spTgt spid="4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0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2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2" dur="77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0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4"/>
          <p:cNvSpPr/>
          <p:nvPr/>
        </p:nvSpPr>
        <p:spPr>
          <a:xfrm>
            <a:off x="1447920" y="2057400"/>
            <a:ext cx="62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d back, for example when light bounces off an object that it does not go throug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fle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9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31T01:07:29Z</dcterms:created>
  <dc:creator>Westside Community Schools</dc:creator>
  <dc:description/>
  <dc:language>en-US</dc:language>
  <cp:lastModifiedBy>Mr. Zoubek</cp:lastModifiedBy>
  <dcterms:modified xsi:type="dcterms:W3CDTF">2012-12-31T02:52:21Z</dcterms:modified>
  <cp:revision>9</cp:revision>
  <dc:subject/>
  <dc:title>PowerPoint Presentation</dc:title>
</cp:coreProperties>
</file>